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02DF6-3A3A-44F5-AA19-D62E28B47B3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4D9E1-D97F-4664-B57B-897034C875B5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58D49-E431-4DF1-9041-4DD4A9F7B23B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861E9-82E3-4E50-A18E-EBB068AE97AB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D6934-3FEE-4272-9E90-3278A75382BC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81CC1-C66B-47C3-9694-5CEFCD879A80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EE018-8431-4B9E-B025-9E1731FED38A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01809-6554-40A7-92AB-FC833C80F926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122C9-6DDD-44EF-9E59-BF50DDB71D2D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0B0B4-B91C-4315-AD06-840960C114C7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617B-6A6F-440A-89C8-BB0853775E95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BC460-0B3E-40DA-B8C0-C72AEBF740BE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11B49-7A4F-4F37-A171-D3163BC0287F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13452-4768-4F12-A799-F02F17C23A95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BCB9-5C0E-474E-85CF-BA4E4334F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062A-EBD7-4E0F-818A-A0D3988C7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848E-79E2-485D-94EC-78BC88E77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08E9-E7EE-4431-94D1-2AB994514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C0BD2-357A-4A15-B90D-2EE7FEE75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E756B-3BCE-4970-A7F2-09A568177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BA290-129B-42EB-83FA-4B1C1E14A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7531F-5EBD-4C0B-A0A9-45ED1D3B0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26415-87F8-4451-AF28-4A0F2CDA9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175A4-C057-4BC1-9487-652C5148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EBCC7-881F-4032-8042-0560E6E6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9890-E9B3-4B4E-A567-7A675D18A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08CA5-E04A-4F63-99E0-803FA30D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0C4CE-AAB2-4EB4-BE94-7D0F4663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ABA4F-A6BB-4852-A01A-21A23C3F9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FE565-4A7C-4628-93E4-2F35AEDFE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FC44B-87E0-41C6-BFB6-AB64A34B3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BBF1-E764-4415-8A38-38077060E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12EF-92BC-43EF-BE0A-C8483B06F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F80F-71EC-4C99-8EDA-D7B922CD3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1E8E-C244-4D55-BF6E-96332078D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934A-4BC7-4025-B5B2-A73432BD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E4FB-9C57-4DAF-9299-A45397D6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581B-BC07-4A0B-A8B7-66426107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0060A-0F56-4410-BED8-679DFA2A742D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8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Line 9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Picture 11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6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6" name="Picture 8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8F41F-8990-45BF-B426-693054C7221C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ahoma"/>
                <a:ea typeface="Times New Roman"/>
              </a:rPr>
              <a:t>Latest developments in the EU legislation</a:t>
            </a:r>
            <a:br>
              <a:rPr sz="2800"/>
            </a:br>
            <a:r>
              <a:rPr b="1" lang="en-GB" sz="2800" spc="-1" strike="noStrike">
                <a:solidFill>
                  <a:srgbClr val="0066cc"/>
                </a:solidFill>
                <a:latin typeface="Tahoma"/>
                <a:ea typeface="Times New Roman"/>
              </a:rPr>
              <a:t>on financial serv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Viktorija Proskurovska, EBF Adviser</a:t>
            </a:r>
            <a:br>
              <a:rPr sz="2500"/>
            </a:b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18th edition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Brussels, 3 December 2009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EPA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9-Sept-09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Result of a EC consultation shows that an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end-date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o the process of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migration to SEPA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is required. Migration to SEPA is irreversible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1-Nov-09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2800"/>
            </a:b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Bank account switching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within a MS is made easier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-Nov-09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2400"/>
            </a:b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EPA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Direct Debit Scheme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for EU MS) becomes effective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1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3BF57-58D2-410B-9C6D-CD245ABC020D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4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78B28-5571-4F8B-A664-C8CDBFD6667F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4 Items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onsultation on the IFRS for SME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xchange of audit working papers between MSs and Canada, Japan and Switzerland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Need to remove barriers to entry for audit firm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Possible adoption of international standards for statutory audit of EU companies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6" name="TextBox 5"/>
          <p:cNvSpPr/>
          <p:nvPr/>
        </p:nvSpPr>
        <p:spPr>
          <a:xfrm>
            <a:off x="2357280" y="285840"/>
            <a:ext cx="6500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5cad"/>
                </a:solidFill>
                <a:latin typeface="Times New Roman"/>
              </a:rPr>
              <a:t>Financial Reporting and Taxation </a:t>
            </a: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F8A18-5888-4D21-B3D4-FCA9224AC085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moval of barriers to entry for audit firm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17-Jul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3200"/>
            </a:b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C published a summary of the consultation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on control structures in audit firms and their consequences on the audit market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study,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, concludes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all potential barriers to the entry, growth and survival of audit firms in the international audit market must be removed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Current rules are not indispensable in order to retain human capital.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A number of other</a:t>
            </a:r>
            <a:r>
              <a:rPr b="1" lang="en-GB" sz="20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barriers to increasing the number of audit firms operating on the international market were identified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2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A0A34-CE99-4C05-87E8-5908769EA452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Thank you for your attention!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A9CD6-9536-498C-8FAF-9F5A80A6AA9C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28 Recent Development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Banking Regulation and Supervision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 6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nancial Markets and Securitie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 7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Retail Financial Services and Payment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- 11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Financial Reporting and Taxat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-  4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mark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All EU legislative initiatives in the past period have been related to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countering the causes of the current financial crisi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Directly or indirectly, most of the legislative initiative have a European and often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international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 scope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In this Presentation: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focus on one issue per theme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For more detail, see the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complete set of initiatives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to be circulated after meeting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3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7B4FD-7D91-41DA-9D6A-B3650359906F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73D7E-553A-403A-9950-59743637F845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6 Items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Strengthened financial supervision in Europe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2)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New EU Framework for Crisis Management in the Banking Sector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trengthened rules on bank capital and on remuneration in the banking sector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hanges to the Capital Requirements Directive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Review of the Financial Conglomerates Directive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8" name="TextBox 5"/>
          <p:cNvSpPr/>
          <p:nvPr/>
        </p:nvSpPr>
        <p:spPr>
          <a:xfrm>
            <a:off x="2500200" y="285840"/>
            <a:ext cx="6357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5cad"/>
                </a:solidFill>
                <a:latin typeface="Times New Roman"/>
              </a:rPr>
              <a:t>Banking Regulation &amp; Supervision</a:t>
            </a: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3B0B9-8E23-4A7D-99DC-306132E256C7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Financial Supervis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3-Sept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28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adopted a package of draft legislation to strengthen supervision of the financial sector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legislation will create a new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ystemic Risk Board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ESRB) and a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ystem of Financial Supervisors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ESFS), to be established by end-2010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6-Oct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adopted additional legislative proposals targeted to change existing financial services legislation to ensure that the new Authorities can work effectively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4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18A91-A7F8-48E5-8FD6-33F2527492DA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7 Items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Strengthened safety of derivatives markets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2)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afer European market for credit default swap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Derivatives in crisis – Safeguarding Financial Stability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Red tape reduction and improvement of investor protection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tudy on trading and post-trading prices, costs and volume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Public consultation on the UCITS depositary function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2500200" y="285840"/>
            <a:ext cx="6357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5cad"/>
                </a:solidFill>
                <a:latin typeface="Times New Roman"/>
              </a:rPr>
              <a:t>Financial Markets &amp; Securities</a:t>
            </a: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6B112-F1F9-4347-A20D-B3560F95AF77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Safety of derivatives market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0-Oct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3200"/>
            </a:b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After a stakeholder Consultation launched in Jul-09 and the public hearing in Sept-09, EC adopted a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Communication for ensuring efficient, safe and sound derivatives market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The Communication sets out future policy actions to: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cc"/>
                </a:solidFill>
                <a:latin typeface="Times New Roman"/>
              </a:rPr>
              <a:t>increase transparency </a:t>
            </a: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of the derivatives market,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cc"/>
                </a:solidFill>
                <a:latin typeface="Times New Roman"/>
              </a:rPr>
              <a:t>reduce counterparty and operational risk </a:t>
            </a: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in trading and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cc"/>
                </a:solidFill>
                <a:latin typeface="Times New Roman"/>
              </a:rPr>
              <a:t>enhance market integrity </a:t>
            </a: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and </a:t>
            </a:r>
            <a:r>
              <a:rPr b="0" i="1" lang="en-US" sz="2200" spc="-1" strike="noStrike">
                <a:solidFill>
                  <a:srgbClr val="0066cc"/>
                </a:solidFill>
                <a:latin typeface="Times New Roman"/>
              </a:rPr>
              <a:t>oversight</a:t>
            </a: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EC will start a process of drafting legislation, notably by launching impact assessments, and come forward with legislative proposals in 2010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FBB6E-534B-4B95-B739-B47F2A6F1F61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11 Items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Consumers to start benefiting from easier bank account switching from Nov-09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SEPA – Cross-Border Payments Now A Reality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Possible end-date for SEPA migration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General support for end-date for SEPA migration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Actions to make SEPA a success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Technical Workshop on Packaged Retail Investment Products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nsuring access to a basic bank account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Alternative dispute resolution (ADR) in the area of financial services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Report on the financial crisis and financial education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nsuring responsible lending and borrowing in the EU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xpert group report on credit histories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2357280" y="285840"/>
            <a:ext cx="6500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5cad"/>
                </a:solidFill>
                <a:latin typeface="Times New Roman"/>
              </a:rPr>
              <a:t>Retail Financial Services &amp; Payments</a:t>
            </a: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60227-A1AB-4C94-8F64-F9DD30CA9CD0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SEPA Roadmap for 2009-2012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10-Sept-09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C adopted a Communication on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Completing SEPA: a Roadmap for 2009-2012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ommunication provides a framework for action within six priority areas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Foster migration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Increase SEPA awareness and promote SEPA products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Design a sound legal environment and strengthen SEPA compliance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Promote innovation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nsure necessary standardisation, interoperability and security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Clarify and improve SEPA governance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0T14:54:20Z</dcterms:created>
  <dc:creator>proskurovska</dc:creator>
  <dc:description/>
  <dc:language>en-US</dc:language>
  <cp:lastModifiedBy>Viktorija Proskurovska</cp:lastModifiedBy>
  <dcterms:modified xsi:type="dcterms:W3CDTF">2009-12-02T11:23:45Z</dcterms:modified>
  <cp:revision>197</cp:revision>
  <dc:subject/>
  <dc:title>Latest developments in the EU legislation on financial services</dc:title>
</cp:coreProperties>
</file>